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155E-88F1-4B34-B1D3-BD4DD80C6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8502-E013-4A5E-BDCE-2171EBD0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F61B-56AC-44E1-BB84-BA2413D0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7EBF-B1BF-442D-933F-68E36EBF9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99F9-149C-4FCA-BDC1-13EB0FE19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E6F8-DC1E-48EB-A321-712751B1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F870-5E8D-45AE-9E72-7D85FC43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385F-0515-45D3-84A6-6639F43E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6D1F-6335-48F1-8BD8-0190725E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F75A-F577-4076-AEDC-78A5DEDA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C426-22CD-4EB4-99DE-AA8D8ADB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FCFB-7B82-48F4-A152-C6325090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DD35-8D8D-49D8-B70C-594083A2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86ED-331A-4394-BE54-7B97489A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4457-322A-437C-AFED-B43A564B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4895-B360-48E5-A618-DD3ABBA9F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02BE-353D-49BD-AEF1-565CCBA97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BEC4-1E06-4F86-8B22-C923A872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E382-0E88-4D49-8CCC-1CE49E82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DBCF-F7D6-4B30-8D00-3F4793C9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630C-2CD9-4EE9-A088-E08016A4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EAA0-3E4D-4BBF-9295-62395188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423B-ECCC-4708-88D5-D01E9F79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D210-D9B4-4BA3-A61B-780D753D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4664-5627-44B8-B11A-57A5E7BADDA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4AD8-38A1-474D-8B52-3488172CE85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0" y="48006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America Past and Pres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ighth Edi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vine  </a:t>
            </a:r>
            <a:r>
              <a:rPr b="0" lang="en-US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 Breen  </a:t>
            </a:r>
            <a:r>
              <a:rPr b="0" lang="en-US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redrickson  </a:t>
            </a:r>
            <a:r>
              <a:rPr b="0" lang="en-US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 Williams  </a:t>
            </a:r>
            <a:r>
              <a:rPr b="0" lang="en-US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Gross  </a:t>
            </a:r>
            <a:r>
              <a:rPr b="0" lang="en-US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ra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PTER 2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w World Experiments</a:t>
            </a:r>
            <a:br>
              <a:rPr sz="44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England’s Seventeenth-Century Coloni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5786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pyright 2007, Pearson Education, Inc., publishing as Longm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inking Weed”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610—John Rolfe introduced tobacc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618—Reforms of Edwin Sandy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use of Burgesses instituted for Virginia self-govern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adright: 50-acre lot granted to each colonist who paid his own transportation, or for each servant brought into the colon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lowed development of huge estat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ime of Recko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pulation increase prevented by imbalanced sex rati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3570 colonists to Virginia, 1619-162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n outnumbered women 6:1 after 1619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agious disease killed settl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618: Virginia population numbered 7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618-1622: 3000 immigrat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622: Virginia population numbered 124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dentured servants denied promised l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622—Powhattan attack killed 347 settl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rruption and Refo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blems of colony blamed on greed and mismanagement of London Compan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624—King James I dissolved London Company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rginia became a royal colon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use of Burgesses continued to me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rgesses created County Court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ryland: A Troubled Refuge for Cathol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itiated by Sir George Calvert (Lord Baltimore) as refuge for English Catholic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632—Calvert’s son Cecilius (second Lord Baltimore) gained charter to Maryland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quired toleration among Catholics and Protestant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ryland: A Troubled Refuge for Cathol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althy Catholics unwilling to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-locate in Americ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on settlers demanded greater voice in Maryland govern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testants refused to tolerate Catholics and seized control in 165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cattered riverfront settlements of poor tobacco planter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forming England in Amer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ilgri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paratists who refused to worship in the Church of Englan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led to Holland to escape persecu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orried that children were becoming too Dut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620—Plymouth founded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yflower Compac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lliam Bradford and Squanto ensured colony surviv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691—absorbed into Massachusetts Ba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Great Migration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uritan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rked within the Church of England to eliminate remaining vestiges of Catholicis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uritans saw Stuarts as unconcerned with needed church reform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630—John Winthrop led Puritan group to Massachusetts with charter giving them power to make decisions without direction from Engla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City on a Hill”: Settl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630-1640—16,000 immigra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ttlers usually came as family uni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ea settled generally health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uritans view of their colony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ccess as part of covenant with Go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“beacon of righteousness” to the worl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urch attendance required, but membership not automat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City on a Hill”: Poli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ublic confession and execution of crimina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vernment by elected representatives responsible to G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l adult male church members could vo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nisters had no formal role and were prohibited from holding offi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wn was center of Puritan lif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mits of Religious Dissent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Laws and Liberties,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164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dified rights and responsibilities of citize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gendered public trust in govern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pt magistrates from arbitrary ru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uritans did not tolerate religious diss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reaking Awa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pid social change in seventeenth-century Engla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glish population mobi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fferent motives for immig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ligious versus econom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sonal: to escape bad marriages, jail terms, or lifelong pover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mits of Religious Dissent: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oger William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xtreme separatis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estioned validity of colony’s charte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dvocated toleration of religious belief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xpelled to Rhode Island, 1636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mits of Religious Dissent: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ne Hutchins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aimed direct divine inspiration by the Holy Spir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ggested most Puritan ministers were no better than those of Church of Engla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r views called the established church into ques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r actions challenged accepted behavior of women in this ti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nished to Rhode Island in 163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bility and Divi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w Hampshire—1677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de a separate colony from Massachusetts Ba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necticut—163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rst settlements led by Thomas Hook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662, king granted a char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w Haven—absorbed into Connecticu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hode Island—1636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der Roger Williams, it accepted dissenters from Massachuset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leration, but much infight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663, king granted a char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w England Colonies, 165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rcRect l="1758" t="1495" r="1721" b="1495"/>
          <a:stretch/>
        </p:blipFill>
        <p:spPr>
          <a:xfrm>
            <a:off x="2438280" y="1523880"/>
            <a:ext cx="41911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versity in the Middle Colon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w Y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w Jerse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nnsylvan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lawa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ddle Colonies, 168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1812" t="1570" r="2114" b="2652"/>
          <a:stretch/>
        </p:blipFill>
        <p:spPr>
          <a:xfrm>
            <a:off x="2438280" y="1600200"/>
            <a:ext cx="40388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glo-Dutch Rivalry on the Huds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utch most aggressive European trad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w Netherlands—two settlem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t Orange on Hudson (Albany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w Amsterdam on Manhattan Isla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w Amsterdam very diverse: eighteen different languages in use by 1644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664—colony captured by English flee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utch can keep proper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glo-Dutch Rivalry on the Huds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ea given to king’s brother, James, Duke of Y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perty included New York, New Jersey, Delaware, Maine, and islan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uke’s laws guaranteed religious toleration and created local govern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habitants had no political voice beyond the local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fusion in New Jers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ames gave New Jersey to Lord Berkeley and Sir George Carter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land titles already given by New Y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fusion over who had right to grant land and organize govern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rkeley split colony by selling out to Quaker grou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-united in 1702 as single royal colon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akers in Amer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nnsylvania founding inseparable from Quak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uakers believed no need for a formal ministry; each person’s interpretation of scripture is equally val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uaker” a derogatory term for those who “tremble at the word of the Lord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mbers called sect “Society of Friends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Stuart Monarch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44824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aker Beliefs and Practi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nder: George Fox (1624-1691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lieved in “Inner Light”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jected predestination; anyone could be sav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mphasized values of humility, simplicity, and pacifis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secuted as dangerous anarchis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enn’s “Holy Experiment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istocrat William Penn became a Quaker leader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anted charter for Pennsylvania; bought Delaware from New Jersey proprietors, insuring ocean acc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ly Experiment”—a society run on Quaker princip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moted religious tole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lance of power between rich and po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litical structure failed because it was too cumberso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ttling Pennsylvan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nn’s income came from land sales to settl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ttlers recruited from England, Wales, Ireland, and German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versity caused conflic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Quaker population racked by conten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n-Quaker population did not share Quaker idea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701—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Charter of Libert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f-rule to Pennsylvan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parated Delawa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ting the Carolina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liance on slave labor produced superficial similarity to Chesapeak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versity of settlers and environment produced great divergence from Chesapeak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prietors of the Carolin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ted by Charles II in 1663 to eight “Proprietors” to reward loyal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ied to recruit settlers from established American colon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w inhabitants in first yea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Barbadian Conne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thony Ashley Cooper encouraged settlement by planters from Barbad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arbadians settled around Charleston, re-created plantation system of Barbad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ice eventually became the staple cro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undamental Constitutions of Carolina” drawn up by John Lock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jected by population that desired greater self-govern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rench Huguenot settlers opposed Barbadia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719—last governor appointed by proprietors overthrow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729—king takes over and splits the colony into northern and southern halv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Founding of Georg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orgia founded in 1732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ames Oglethorpe’s ide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rategic purpose: buffer between Carolinas and Spanish Florid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aritable purpose: refuge for imprisoned debtors from Engl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iginally rum and slaves prohibited, landowning capp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glethorpe’s ideas unpopular and repealed by 175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400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Carolinas and Georg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rcRect l="1913" t="1449" r="2394" b="1449"/>
          <a:stretch/>
        </p:blipFill>
        <p:spPr>
          <a:xfrm>
            <a:off x="2743200" y="1447920"/>
            <a:ext cx="38098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ving with Divers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l colonies faced early struggle to surviv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tinct regional differences intensified and persisted throughout the colonial period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llenge of the eighteenth century was how to create unity out of that divers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nglish Civil War and Glorious Revolu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160020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glish Civil War, 1640-164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uart Monarchy vs. Parli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arles I behe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liver Cromwell made Lord Prot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uarts restored with Charles II, 16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lorious Revolution, 168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lliam and Mary replaced James 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tablished that monarchs must rule with Parli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ur Colonial Subcultu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Chesapeak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w Engla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ddle Colon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Carolin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Chesapeake: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reams of Weal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ichard Hakluy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lonies make great profit for investo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ree England from dependence on rival powers for valuable commodit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i-Catholicism prompted English people to challenge Spanish claims in New Worl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ntrepreneurs in Virgin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oint-stock companies provided financ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glish stockholders in Virginia Company expected instant profit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amestown settled in 1607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lony’s location in a swamp unhealth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petition from expansive Powhatt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lonists did not work for common goo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esapeake Colonies, 164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2300" t="1449" r="3400" b="1449"/>
          <a:stretch/>
        </p:blipFill>
        <p:spPr>
          <a:xfrm>
            <a:off x="2971800" y="1371600"/>
            <a:ext cx="31240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pinning Out of Contro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608-1609—John Smith imposed ord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609—London Company re-organized colonial govern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610— “Starving Time” ended by arrival of Lord De La Warr, fresh settlers, and martial la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flict with Powhatt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ributed to “starving time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622—natives attempted to drive out Englis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644—second attempt to drive out English; Powhattan empire destroy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resa Ward User</cp:lastModifiedBy>
  <dcterms:modified xsi:type="dcterms:W3CDTF">2006-11-08T19:11:17Z</dcterms:modified>
  <cp:revision>12</cp:revision>
  <dc:subject/>
  <dc:title>CHAPTER 2 New World Encounters England’s Seventeenth-Century Colonies</dc:title>
</cp:coreProperties>
</file>